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432000" cy="36576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BED-2440-4ED9-80B2-19250ACA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233172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400" y="22028760"/>
            <a:ext cx="233172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DFB-6CB1-48C8-8CC1-274858E7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00508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E5B-9AB4-4DCB-9D59-6B47133A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941040" y="105663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824680" y="105663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400" y="220287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941040" y="220287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824680" y="22028760"/>
            <a:ext cx="75078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082-5AD6-4707-9BC2-0FC70A359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400" y="10566360"/>
            <a:ext cx="23317200" cy="219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97A-CE1E-431A-8B2D-CCE4E733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2331720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5FEC-9092-47D7-B0EC-D4FFC55D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9C3-3522-41BE-AE6E-83A89332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EBC-F29A-41B4-950F-B97A8484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250800"/>
            <a:ext cx="23317200" cy="2825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E20-7695-435A-92AA-EECBE22A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40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9149-008B-4DFA-A090-555F4970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005080" y="220287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CE1-0E8D-414A-B7B0-C10F67E8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005080" y="10566360"/>
            <a:ext cx="1137852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400" y="22028760"/>
            <a:ext cx="23317200" cy="10467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E47-61C6-4988-B79A-A5D2AF88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3250800"/>
            <a:ext cx="23317200" cy="60958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400" y="10566360"/>
            <a:ext cx="23317200" cy="219456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Times New Roman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Times New Roman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7040" y="3332448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372600" y="3332448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659240" y="3332448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411B021D-14DC-49BB-82C6-351D71C104E6}" type="slidenum">
              <a:rPr b="0" lang="en-US" sz="5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191120" y="1600200"/>
            <a:ext cx="18668880" cy="41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Que te gusta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AC072982" descr=""/>
          <p:cNvPicPr/>
          <p:nvPr/>
        </p:nvPicPr>
        <p:blipFill>
          <a:blip r:embed="rId1"/>
          <a:stretch/>
        </p:blipFill>
        <p:spPr>
          <a:xfrm>
            <a:off x="21031200" y="6095880"/>
            <a:ext cx="4022640" cy="472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PLANE009" descr=""/>
          <p:cNvPicPr/>
          <p:nvPr/>
        </p:nvPicPr>
        <p:blipFill>
          <a:blip r:embed="rId2"/>
          <a:stretch/>
        </p:blipFill>
        <p:spPr>
          <a:xfrm>
            <a:off x="7848720" y="7010280"/>
            <a:ext cx="4671720" cy="20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AF10" descr=""/>
          <p:cNvPicPr/>
          <p:nvPr/>
        </p:nvPicPr>
        <p:blipFill>
          <a:blip r:embed="rId3"/>
          <a:stretch/>
        </p:blipFill>
        <p:spPr>
          <a:xfrm>
            <a:off x="14096880" y="6324480"/>
            <a:ext cx="4672080" cy="390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AF20" descr=""/>
          <p:cNvPicPr/>
          <p:nvPr/>
        </p:nvPicPr>
        <p:blipFill>
          <a:blip r:embed="rId4"/>
          <a:stretch/>
        </p:blipFill>
        <p:spPr>
          <a:xfrm>
            <a:off x="21107520" y="12192120"/>
            <a:ext cx="4671720" cy="40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ARCHS003" descr=""/>
          <p:cNvPicPr/>
          <p:nvPr/>
        </p:nvPicPr>
        <p:blipFill>
          <a:blip r:embed="rId5"/>
          <a:stretch/>
        </p:blipFill>
        <p:spPr>
          <a:xfrm>
            <a:off x="21259800" y="18364320"/>
            <a:ext cx="4672080" cy="630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BA020990" descr=""/>
          <p:cNvPicPr/>
          <p:nvPr/>
        </p:nvPicPr>
        <p:blipFill>
          <a:blip r:embed="rId6"/>
          <a:stretch/>
        </p:blipFill>
        <p:spPr>
          <a:xfrm>
            <a:off x="14706720" y="25984080"/>
            <a:ext cx="2968560" cy="301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BANK" descr=""/>
          <p:cNvPicPr/>
          <p:nvPr/>
        </p:nvPicPr>
        <p:blipFill>
          <a:blip r:embed="rId7"/>
          <a:stretch/>
        </p:blipFill>
        <p:spPr>
          <a:xfrm>
            <a:off x="8839080" y="9677520"/>
            <a:ext cx="3899160" cy="31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BUSIN289" descr=""/>
          <p:cNvPicPr/>
          <p:nvPr/>
        </p:nvPicPr>
        <p:blipFill>
          <a:blip r:embed="rId8"/>
          <a:stretch/>
        </p:blipFill>
        <p:spPr>
          <a:xfrm>
            <a:off x="1295280" y="5943600"/>
            <a:ext cx="3915000" cy="666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BUS1" descr=""/>
          <p:cNvPicPr/>
          <p:nvPr/>
        </p:nvPicPr>
        <p:blipFill>
          <a:blip r:embed="rId9"/>
          <a:stretch/>
        </p:blipFill>
        <p:spPr>
          <a:xfrm>
            <a:off x="21183480" y="25603200"/>
            <a:ext cx="4672080" cy="315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BUSIN924" descr=""/>
          <p:cNvPicPr/>
          <p:nvPr/>
        </p:nvPicPr>
        <p:blipFill>
          <a:blip r:embed="rId10"/>
          <a:stretch/>
        </p:blipFill>
        <p:spPr>
          <a:xfrm>
            <a:off x="3200400" y="13106520"/>
            <a:ext cx="3643200" cy="348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B6FLWR37" descr=""/>
          <p:cNvPicPr/>
          <p:nvPr/>
        </p:nvPicPr>
        <p:blipFill>
          <a:blip r:embed="rId11"/>
          <a:stretch/>
        </p:blipFill>
        <p:spPr>
          <a:xfrm>
            <a:off x="7848720" y="14478120"/>
            <a:ext cx="4298760" cy="483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3" name="CELBR194" descr=""/>
          <p:cNvPicPr/>
          <p:nvPr/>
        </p:nvPicPr>
        <p:blipFill>
          <a:blip r:embed="rId12"/>
          <a:stretch/>
        </p:blipFill>
        <p:spPr>
          <a:xfrm>
            <a:off x="1676520" y="29184480"/>
            <a:ext cx="4671720" cy="508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BATHRO~1" descr=""/>
          <p:cNvPicPr/>
          <p:nvPr/>
        </p:nvPicPr>
        <p:blipFill>
          <a:blip r:embed="rId13"/>
          <a:stretch/>
        </p:blipFill>
        <p:spPr>
          <a:xfrm>
            <a:off x="8077320" y="27965520"/>
            <a:ext cx="4671720" cy="718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BLAZER" descr=""/>
          <p:cNvPicPr/>
          <p:nvPr/>
        </p:nvPicPr>
        <p:blipFill>
          <a:blip r:embed="rId14"/>
          <a:stretch/>
        </p:blipFill>
        <p:spPr>
          <a:xfrm>
            <a:off x="1447920" y="17145000"/>
            <a:ext cx="368136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CLTH140" descr=""/>
          <p:cNvPicPr/>
          <p:nvPr/>
        </p:nvPicPr>
        <p:blipFill>
          <a:blip r:embed="rId15"/>
          <a:stretch/>
        </p:blipFill>
        <p:spPr>
          <a:xfrm>
            <a:off x="9296280" y="20574000"/>
            <a:ext cx="2686320" cy="60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TRSPRNT1" descr=""/>
          <p:cNvPicPr/>
          <p:nvPr/>
        </p:nvPicPr>
        <p:blipFill>
          <a:blip r:embed="rId16"/>
          <a:stretch/>
        </p:blipFill>
        <p:spPr>
          <a:xfrm>
            <a:off x="20345400" y="31165920"/>
            <a:ext cx="4672080" cy="282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D3DANC22" descr=""/>
          <p:cNvPicPr/>
          <p:nvPr/>
        </p:nvPicPr>
        <p:blipFill>
          <a:blip r:embed="rId17"/>
          <a:stretch/>
        </p:blipFill>
        <p:spPr>
          <a:xfrm>
            <a:off x="2209680" y="21869280"/>
            <a:ext cx="5691240" cy="648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HAIR025" descr=""/>
          <p:cNvPicPr/>
          <p:nvPr/>
        </p:nvPicPr>
        <p:blipFill>
          <a:blip r:embed="rId18"/>
          <a:stretch/>
        </p:blipFill>
        <p:spPr>
          <a:xfrm>
            <a:off x="14554080" y="30175200"/>
            <a:ext cx="4211640" cy="427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HAIR098" descr=""/>
          <p:cNvPicPr/>
          <p:nvPr/>
        </p:nvPicPr>
        <p:blipFill>
          <a:blip r:embed="rId19"/>
          <a:stretch/>
        </p:blipFill>
        <p:spPr>
          <a:xfrm>
            <a:off x="14325480" y="11658600"/>
            <a:ext cx="4672080" cy="46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XMAS56" descr=""/>
          <p:cNvPicPr/>
          <p:nvPr/>
        </p:nvPicPr>
        <p:blipFill>
          <a:blip r:embed="rId20"/>
          <a:stretch/>
        </p:blipFill>
        <p:spPr>
          <a:xfrm>
            <a:off x="13944600" y="18897480"/>
            <a:ext cx="4672080" cy="468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0" y="0"/>
            <a:ext cx="2743200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5128080"/>
            <a:ext cx="2743200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23:03:13Z</dcterms:created>
  <dc:creator>ValeriaP</dc:creator>
  <dc:description/>
  <dc:language>en-US</dc:language>
  <cp:lastModifiedBy>Preferred Customer</cp:lastModifiedBy>
  <dcterms:modified xsi:type="dcterms:W3CDTF">2001-01-08T01:02:33Z</dcterms:modified>
  <cp:revision>1</cp:revision>
  <dc:subject/>
  <dc:title>No Slide Title</dc:title>
</cp:coreProperties>
</file>